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205B-FF76-4E8F-A07B-F821FE3694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1153-3DFF-4736-A24E-916968EA5DC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CE44-BB72-47BA-BF50-8D16DCE1600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两、三位数除以一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835440" y="3629160"/>
            <a:ext cx="374472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813120" y="2857680"/>
            <a:ext cx="41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解 决 问 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1"/>
          <p:cNvSpPr/>
          <p:nvPr/>
        </p:nvSpPr>
        <p:spPr>
          <a:xfrm>
            <a:off x="1446120" y="2577960"/>
            <a:ext cx="622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1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同学去野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活老师要负责准备吃饭用的碗。每人一个饭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一个菜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一个汤碗。算一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要准备多少个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F:\七彩课堂插图板式封面\排版用图标、页眉页脚\标题jpg\读读比比.jpg"/>
          <p:cNvPicPr/>
          <p:nvPr/>
        </p:nvPicPr>
        <p:blipFill>
          <a:blip r:embed="rId1"/>
          <a:srcRect l="16672" t="0" r="0" b="0"/>
          <a:stretch/>
        </p:blipFill>
        <p:spPr>
          <a:xfrm>
            <a:off x="6588000" y="765000"/>
            <a:ext cx="2160720" cy="181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4"/>
          <p:cNvSpPr/>
          <p:nvPr/>
        </p:nvSpPr>
        <p:spPr>
          <a:xfrm>
            <a:off x="1574640" y="2649600"/>
            <a:ext cx="63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是现实生活中的问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人一个饭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÷1=12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一个菜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÷2=6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一个汤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÷5=24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把所有的碗加起来就是需要准备的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7"/>
          <p:cNvSpPr/>
          <p:nvPr/>
        </p:nvSpPr>
        <p:spPr>
          <a:xfrm>
            <a:off x="2147760" y="2924280"/>
            <a:ext cx="48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0÷1=12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0÷2=6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0÷5=24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0+60+24=204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共要准备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50" name="矩形 1"/>
          <p:cNvSpPr/>
          <p:nvPr/>
        </p:nvSpPr>
        <p:spPr>
          <a:xfrm rot="18297600">
            <a:off x="6457680" y="3690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对象 2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54" name="Picture 3" descr="F:\七彩课堂插图板式封面\排版用图标、页眉页脚\标题jpg\读读比比.jpg"/>
          <p:cNvPicPr/>
          <p:nvPr/>
        </p:nvPicPr>
        <p:blipFill>
          <a:blip r:embed="rId3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5"/>
          <p:cNvSpPr/>
          <p:nvPr/>
        </p:nvSpPr>
        <p:spPr>
          <a:xfrm>
            <a:off x="1763640" y="1870200"/>
            <a:ext cx="51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能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足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可以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篮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篮球比一个足球贵多少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2506680" y="3751200"/>
            <a:ext cx="36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0÷6-4=46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63" name="矩形 19"/>
          <p:cNvSpPr/>
          <p:nvPr/>
        </p:nvSpPr>
        <p:spPr>
          <a:xfrm>
            <a:off x="1246320" y="2490840"/>
            <a:ext cx="62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正确理解题意。错误解答中在计算出每个足球的单价后直接减去了足球的个数。求一个篮球比一个足球贵多少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先分别求出足球和篮球的单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计算一个篮球比一个足球贵多少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67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5"/>
          <p:cNvSpPr/>
          <p:nvPr/>
        </p:nvSpPr>
        <p:spPr>
          <a:xfrm rot="18297600">
            <a:off x="5148000" y="4770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对象 1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对象 16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对象 18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3" name="矩形 20"/>
          <p:cNvSpPr/>
          <p:nvPr/>
        </p:nvSpPr>
        <p:spPr>
          <a:xfrm rot="18297600">
            <a:off x="4728960" y="2296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2050920" y="3967200"/>
            <a:ext cx="295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0÷6=50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0÷4=75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75-50=25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9"/>
          <p:cNvSpPr/>
          <p:nvPr/>
        </p:nvSpPr>
        <p:spPr>
          <a:xfrm>
            <a:off x="2022480" y="2195640"/>
            <a:ext cx="36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0÷6-4=46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178" name="矩形 10"/>
          <p:cNvSpPr/>
          <p:nvPr/>
        </p:nvSpPr>
        <p:spPr>
          <a:xfrm>
            <a:off x="1295280" y="2133720"/>
            <a:ext cx="59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灯具厂准备制造一种路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灯柱上装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盏灯。现在一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灯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6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盏灯够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4"/>
          <p:cNvSpPr/>
          <p:nvPr/>
        </p:nvSpPr>
        <p:spPr>
          <a:xfrm>
            <a:off x="2700360" y="3627360"/>
            <a:ext cx="334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6×5=68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盏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不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同侧圆角矩形 31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82680" y="2286000"/>
            <a:ext cx="56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杯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装一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盒装一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装多少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4"/>
          <p:cNvSpPr/>
          <p:nvPr/>
        </p:nvSpPr>
        <p:spPr>
          <a:xfrm>
            <a:off x="3203640" y="3500280"/>
            <a:ext cx="315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900÷6=15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盒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50÷5=3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箱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能装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1042920" y="1544760"/>
            <a:ext cx="57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同学，三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同学，开学新转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新同学，怎样分配才能使两班的学生人数一样多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4"/>
          <p:cNvSpPr/>
          <p:nvPr/>
        </p:nvSpPr>
        <p:spPr>
          <a:xfrm>
            <a:off x="2486160" y="3168720"/>
            <a:ext cx="581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6+39+17=10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2÷2=5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1-46=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1-39=1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分给三（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班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名，三（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班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7543800" y="914400"/>
            <a:ext cx="1289160" cy="81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755640" y="170028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老师准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购买文具。钢笔每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笔记本每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水彩笔每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购买上面的文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各能买多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同侧圆角矩形 6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4" descr="F:\七彩课堂插图板式封面\排版用图标、页眉页脚\标题jpg\读读背背.jpg"/>
          <p:cNvPicPr/>
          <p:nvPr/>
        </p:nvPicPr>
        <p:blipFill>
          <a:blip r:embed="rId1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4"/>
          <p:cNvSpPr/>
          <p:nvPr/>
        </p:nvSpPr>
        <p:spPr>
          <a:xfrm>
            <a:off x="2033640" y="3716280"/>
            <a:ext cx="5607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0÷6=33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支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 ……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0÷4=5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0÷9=2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盒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……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钢笔能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支，笔记本能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本，水彩笔能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069920" y="4116240"/>
            <a:ext cx="68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积极、主动的自主学习的过程中，提高知识的迁移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1052640" y="1658880"/>
            <a:ext cx="69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运用所学知识解决一些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052640" y="2859120"/>
            <a:ext cx="69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会从多角度思考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灵活运用各种方法解答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F:\七彩课堂插图板式封面\排版用图标、页眉页脚\标题jpg\读读背背.jpg"/>
          <p:cNvPicPr/>
          <p:nvPr/>
        </p:nvPicPr>
        <p:blipFill>
          <a:blip r:embed="rId1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201" name="矩形 10"/>
          <p:cNvSpPr/>
          <p:nvPr/>
        </p:nvSpPr>
        <p:spPr>
          <a:xfrm>
            <a:off x="1042920" y="1558800"/>
            <a:ext cx="60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的旅游团去保定白洋淀游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你计算一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种租船方案最省钱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快艇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渔船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观赏船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文本框 4"/>
          <p:cNvSpPr/>
          <p:nvPr/>
        </p:nvSpPr>
        <p:spPr>
          <a:xfrm>
            <a:off x="1784520" y="3789360"/>
            <a:ext cx="52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×30=9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×450=135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租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艘观赏船最省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08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AutoShape 27"/>
          <p:cNvSpPr/>
          <p:nvPr/>
        </p:nvSpPr>
        <p:spPr>
          <a:xfrm>
            <a:off x="5724360" y="1362240"/>
            <a:ext cx="2880000" cy="1363320"/>
          </a:xfrm>
          <a:prstGeom prst="wedgeRoundRectCallout">
            <a:avLst>
              <a:gd name="adj1" fmla="val -63462"/>
              <a:gd name="adj2" fmla="val -2131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决问题时要多角度考虑，灵活运用多种解答方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oup 23"/>
          <p:cNvGrpSpPr/>
          <p:nvPr/>
        </p:nvGrpSpPr>
        <p:grpSpPr>
          <a:xfrm>
            <a:off x="3157560" y="1460520"/>
            <a:ext cx="2449440" cy="1871640"/>
            <a:chOff x="3157560" y="1460520"/>
            <a:chExt cx="2449440" cy="1871640"/>
          </a:xfrm>
        </p:grpSpPr>
        <p:pic>
          <p:nvPicPr>
            <p:cNvPr id="212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312080" y="1460520"/>
              <a:ext cx="129492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157560" y="1589400"/>
              <a:ext cx="128628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矩形 18"/>
          <p:cNvSpPr/>
          <p:nvPr/>
        </p:nvSpPr>
        <p:spPr>
          <a:xfrm>
            <a:off x="554040" y="3336840"/>
            <a:ext cx="7705800" cy="58140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决问题之前要充分考虑题中的条件与条件之间、条件与所求问题之间的关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3"/>
          <p:cNvSpPr/>
          <p:nvPr/>
        </p:nvSpPr>
        <p:spPr>
          <a:xfrm>
            <a:off x="590400" y="4646520"/>
            <a:ext cx="7705800" cy="581400"/>
          </a:xfrm>
          <a:prstGeom prst="rect">
            <a:avLst/>
          </a:prstGeom>
          <a:solidFill>
            <a:srgbClr val="00b0f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每列出一个算式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都要想一想求出的是什么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在解决问题的众多方案中选择一个最合理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/>
            <a:ahLst/>
            <a:rect l="l" t="t" r="r" b="b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/>
            <a:ahLst/>
            <a:rect l="l" t="t" r="r" b="b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/>
            <a:ahLst/>
            <a:rect l="l" t="t" r="r" b="b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/>
            <a:ahLst/>
            <a:rect l="l" t="t" r="r" b="b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/>
            <a:ahLst/>
            <a:rect l="l" t="t" r="r" b="b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/>
            <a:ahLst/>
            <a:rect l="l" t="t" r="r" b="b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/>
            <a:ahLst/>
            <a:rect l="l" t="t" r="r" b="b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/>
            <a:ahLst/>
            <a:rect l="l" t="t" r="r" b="b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/>
            <a:ahLst/>
            <a:rect l="l" t="t" r="r" b="b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/>
            <a:ahLst/>
            <a:rect l="l" t="t" r="r" b="b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/>
            <a:ahLst/>
            <a:rect l="l" t="t" r="r" b="b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/>
            <a:ahLst/>
            <a:rect l="l" t="t" r="r" b="b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5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同侧圆角矩形 42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同侧圆角矩形 4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2"/>
          <p:cNvGrpSpPr/>
          <p:nvPr/>
        </p:nvGrpSpPr>
        <p:grpSpPr>
          <a:xfrm>
            <a:off x="6502320" y="3448080"/>
            <a:ext cx="1593720" cy="474480"/>
            <a:chOff x="6502320" y="3448080"/>
            <a:chExt cx="1593720" cy="474480"/>
          </a:xfrm>
        </p:grpSpPr>
        <p:grpSp>
          <p:nvGrpSpPr>
            <p:cNvPr id="61" name="Group 78"/>
            <p:cNvGrpSpPr/>
            <p:nvPr/>
          </p:nvGrpSpPr>
          <p:grpSpPr>
            <a:xfrm>
              <a:off x="6502320" y="3448080"/>
              <a:ext cx="1593720" cy="459720"/>
              <a:chOff x="6502320" y="3448080"/>
              <a:chExt cx="1593720" cy="459720"/>
            </a:xfrm>
          </p:grpSpPr>
          <p:sp>
            <p:nvSpPr>
              <p:cNvPr id="62" name="Text Box 29"/>
              <p:cNvSpPr/>
              <p:nvPr/>
            </p:nvSpPr>
            <p:spPr>
              <a:xfrm>
                <a:off x="6502320" y="344808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Text Box 30"/>
              <p:cNvSpPr/>
              <p:nvPr/>
            </p:nvSpPr>
            <p:spPr>
              <a:xfrm>
                <a:off x="7008480" y="344808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 1 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4" name="图片 13" descr=""/>
            <p:cNvPicPr/>
            <p:nvPr/>
          </p:nvPicPr>
          <p:blipFill>
            <a:blip r:embed="rId1"/>
            <a:stretch/>
          </p:blipFill>
          <p:spPr>
            <a:xfrm>
              <a:off x="6902280" y="347004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Group 76"/>
          <p:cNvGrpSpPr/>
          <p:nvPr/>
        </p:nvGrpSpPr>
        <p:grpSpPr>
          <a:xfrm>
            <a:off x="4645080" y="3419640"/>
            <a:ext cx="1593720" cy="502560"/>
            <a:chOff x="4645080" y="3419640"/>
            <a:chExt cx="1593720" cy="502560"/>
          </a:xfrm>
        </p:grpSpPr>
        <p:grpSp>
          <p:nvGrpSpPr>
            <p:cNvPr id="66" name="Group 72"/>
            <p:cNvGrpSpPr/>
            <p:nvPr/>
          </p:nvGrpSpPr>
          <p:grpSpPr>
            <a:xfrm>
              <a:off x="4645080" y="3419640"/>
              <a:ext cx="1593720" cy="459720"/>
              <a:chOff x="4645080" y="3419640"/>
              <a:chExt cx="1593720" cy="459720"/>
            </a:xfrm>
          </p:grpSpPr>
          <p:sp>
            <p:nvSpPr>
              <p:cNvPr id="67" name="Text Box 29"/>
              <p:cNvSpPr/>
              <p:nvPr/>
            </p:nvSpPr>
            <p:spPr>
              <a:xfrm>
                <a:off x="4645080" y="341964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Text Box 30"/>
              <p:cNvSpPr/>
              <p:nvPr/>
            </p:nvSpPr>
            <p:spPr>
              <a:xfrm>
                <a:off x="5151240" y="341964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 3 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9" name="图片 13" descr=""/>
            <p:cNvPicPr/>
            <p:nvPr/>
          </p:nvPicPr>
          <p:blipFill>
            <a:blip r:embed="rId2"/>
            <a:stretch/>
          </p:blipFill>
          <p:spPr>
            <a:xfrm>
              <a:off x="5002200" y="3470040"/>
              <a:ext cx="1032840" cy="45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70"/>
          <p:cNvGrpSpPr/>
          <p:nvPr/>
        </p:nvGrpSpPr>
        <p:grpSpPr>
          <a:xfrm>
            <a:off x="3056040" y="3422520"/>
            <a:ext cx="1496880" cy="489960"/>
            <a:chOff x="3056040" y="3422520"/>
            <a:chExt cx="1496880" cy="489960"/>
          </a:xfrm>
        </p:grpSpPr>
        <p:grpSp>
          <p:nvGrpSpPr>
            <p:cNvPr id="71" name="Group 66"/>
            <p:cNvGrpSpPr/>
            <p:nvPr/>
          </p:nvGrpSpPr>
          <p:grpSpPr>
            <a:xfrm>
              <a:off x="3056040" y="3422520"/>
              <a:ext cx="1496880" cy="489960"/>
              <a:chOff x="3056040" y="3422520"/>
              <a:chExt cx="1496880" cy="489960"/>
            </a:xfrm>
          </p:grpSpPr>
          <p:sp>
            <p:nvSpPr>
              <p:cNvPr id="72" name="Text Box 29"/>
              <p:cNvSpPr/>
              <p:nvPr/>
            </p:nvSpPr>
            <p:spPr>
              <a:xfrm>
                <a:off x="3056040" y="345276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Text Box 30"/>
              <p:cNvSpPr/>
              <p:nvPr/>
            </p:nvSpPr>
            <p:spPr>
              <a:xfrm>
                <a:off x="3465360" y="342252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 0 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4" name="图片 13" descr=""/>
            <p:cNvPicPr/>
            <p:nvPr/>
          </p:nvPicPr>
          <p:blipFill>
            <a:blip r:embed="rId3"/>
            <a:stretch/>
          </p:blipFill>
          <p:spPr>
            <a:xfrm>
              <a:off x="3308400" y="345888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63"/>
          <p:cNvGrpSpPr/>
          <p:nvPr/>
        </p:nvGrpSpPr>
        <p:grpSpPr>
          <a:xfrm>
            <a:off x="1262160" y="3419640"/>
            <a:ext cx="1537920" cy="475560"/>
            <a:chOff x="1262160" y="3419640"/>
            <a:chExt cx="1537920" cy="475560"/>
          </a:xfrm>
        </p:grpSpPr>
        <p:sp>
          <p:nvSpPr>
            <p:cNvPr id="76" name="Text Box 29"/>
            <p:cNvSpPr/>
            <p:nvPr/>
          </p:nvSpPr>
          <p:spPr>
            <a:xfrm>
              <a:off x="1262160" y="34196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0"/>
            <p:cNvSpPr/>
            <p:nvPr/>
          </p:nvSpPr>
          <p:spPr>
            <a:xfrm>
              <a:off x="1712880" y="3435480"/>
              <a:ext cx="108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9 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" name="图片 13" descr=""/>
          <p:cNvPicPr/>
          <p:nvPr/>
        </p:nvPicPr>
        <p:blipFill>
          <a:blip r:embed="rId4"/>
          <a:stretch/>
        </p:blipFill>
        <p:spPr>
          <a:xfrm>
            <a:off x="1468440" y="3395520"/>
            <a:ext cx="1033560" cy="45252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86"/>
          <p:cNvGrpSpPr/>
          <p:nvPr/>
        </p:nvGrpSpPr>
        <p:grpSpPr>
          <a:xfrm>
            <a:off x="3216240" y="944640"/>
            <a:ext cx="5500440" cy="1800000"/>
            <a:chOff x="3216240" y="944640"/>
            <a:chExt cx="5500440" cy="1800000"/>
          </a:xfrm>
        </p:grpSpPr>
        <p:sp>
          <p:nvSpPr>
            <p:cNvPr id="80" name="AutoShape 27"/>
            <p:cNvSpPr/>
            <p:nvPr/>
          </p:nvSpPr>
          <p:spPr>
            <a:xfrm>
              <a:off x="3216240" y="1376280"/>
              <a:ext cx="4054680" cy="684360"/>
            </a:xfrm>
            <a:prstGeom prst="wedgeRoundRectCallout">
              <a:avLst>
                <a:gd name="adj1" fmla="val 53967"/>
                <a:gd name="adj2" fmla="val 264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说一说商是几位数，再计算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Picture 84" descr="42"/>
            <p:cNvPicPr/>
            <p:nvPr/>
          </p:nvPicPr>
          <p:blipFill>
            <a:blip r:embed="rId5"/>
            <a:stretch/>
          </p:blipFill>
          <p:spPr>
            <a:xfrm flipH="1">
              <a:off x="6916320" y="94464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Picture 3" descr="F:\七彩课堂插图板式封面\排版用图标、页眉页脚\标题图（终-排版用）共29个\资料宝袋.jpg"/>
          <p:cNvPicPr/>
          <p:nvPr/>
        </p:nvPicPr>
        <p:blipFill>
          <a:blip r:embed="rId6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4"/>
          <p:cNvSpPr/>
          <p:nvPr/>
        </p:nvSpPr>
        <p:spPr>
          <a:xfrm>
            <a:off x="1444680" y="51498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组合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帮助导游设计几个住宿方案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34"/>
          <p:cNvSpPr/>
          <p:nvPr/>
        </p:nvSpPr>
        <p:spPr>
          <a:xfrm>
            <a:off x="1382760" y="1627200"/>
            <a:ext cx="45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某旅游团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人到宾馆住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J3-33.EPS" descr="id:2147507275;FounderCES"/>
          <p:cNvPicPr/>
          <p:nvPr/>
        </p:nvPicPr>
        <p:blipFill>
          <a:blip r:embed="rId1"/>
          <a:stretch/>
        </p:blipFill>
        <p:spPr>
          <a:xfrm>
            <a:off x="1062000" y="2319480"/>
            <a:ext cx="4330800" cy="2255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C:\Users\Administrator\AppData\Roaming\Tencent\Users\781547643\QQ\WinTemp\RichOle\LQ9CD9AEA5T`$0B1RSK07@Q.png"/>
          <p:cNvPicPr/>
          <p:nvPr/>
        </p:nvPicPr>
        <p:blipFill>
          <a:blip r:embed="rId2"/>
          <a:stretch/>
        </p:blipFill>
        <p:spPr>
          <a:xfrm>
            <a:off x="5796000" y="2813040"/>
            <a:ext cx="2257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835280" y="2398680"/>
          <a:ext cx="5999040" cy="3360600"/>
        </p:xfrm>
        <a:graphic>
          <a:graphicData uri="http://schemas.openxmlformats.org/drawingml/2006/table">
            <a:tbl>
              <a:tblPr/>
              <a:tblGrid>
                <a:gridCol w="1199880"/>
                <a:gridCol w="1200240"/>
                <a:gridCol w="1198440"/>
                <a:gridCol w="1200240"/>
                <a:gridCol w="12002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人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人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人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费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11"/>
          <p:cNvGrpSpPr/>
          <p:nvPr/>
        </p:nvGrpSpPr>
        <p:grpSpPr>
          <a:xfrm>
            <a:off x="128520" y="1498680"/>
            <a:ext cx="5235480" cy="1800000"/>
            <a:chOff x="128520" y="1498680"/>
            <a:chExt cx="5235480" cy="1800000"/>
          </a:xfrm>
        </p:grpSpPr>
        <p:pic>
          <p:nvPicPr>
            <p:cNvPr id="99" name="Picture 69" descr="80"/>
            <p:cNvPicPr/>
            <p:nvPr/>
          </p:nvPicPr>
          <p:blipFill>
            <a:blip r:embed="rId1"/>
            <a:stretch/>
          </p:blipFill>
          <p:spPr>
            <a:xfrm>
              <a:off x="128520" y="1498680"/>
              <a:ext cx="15940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27"/>
            <p:cNvSpPr/>
            <p:nvPr/>
          </p:nvSpPr>
          <p:spPr>
            <a:xfrm>
              <a:off x="1648080" y="1624320"/>
              <a:ext cx="3715920" cy="57888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男游客可以这样安排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文本框 4"/>
          <p:cNvSpPr/>
          <p:nvPr/>
        </p:nvSpPr>
        <p:spPr>
          <a:xfrm>
            <a:off x="3203640" y="5877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案四最便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5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同侧圆角矩形 5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同侧圆角矩形 5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21"/>
          <p:cNvGrpSpPr/>
          <p:nvPr/>
        </p:nvGrpSpPr>
        <p:grpSpPr>
          <a:xfrm>
            <a:off x="3924360" y="907920"/>
            <a:ext cx="5041800" cy="1800360"/>
            <a:chOff x="3924360" y="907920"/>
            <a:chExt cx="5041800" cy="1800360"/>
          </a:xfrm>
        </p:grpSpPr>
        <p:pic>
          <p:nvPicPr>
            <p:cNvPr id="107" name="Picture 100" descr="81"/>
            <p:cNvPicPr/>
            <p:nvPr/>
          </p:nvPicPr>
          <p:blipFill>
            <a:blip r:embed="rId1"/>
            <a:stretch/>
          </p:blipFill>
          <p:spPr>
            <a:xfrm>
              <a:off x="7702920" y="907920"/>
              <a:ext cx="12632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AutoShape 27"/>
            <p:cNvSpPr/>
            <p:nvPr/>
          </p:nvSpPr>
          <p:spPr>
            <a:xfrm>
              <a:off x="3924360" y="1160280"/>
              <a:ext cx="3421800" cy="44676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女游客可以这样安排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1258920" y="1989000"/>
          <a:ext cx="5689440" cy="3557880"/>
        </p:xfrm>
        <a:graphic>
          <a:graphicData uri="http://schemas.openxmlformats.org/drawingml/2006/table">
            <a:tbl>
              <a:tblPr/>
              <a:tblGrid>
                <a:gridCol w="1138320"/>
                <a:gridCol w="1137960"/>
                <a:gridCol w="1138320"/>
                <a:gridCol w="1136880"/>
                <a:gridCol w="1137960"/>
              </a:tblGrid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人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人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人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费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9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9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9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文本框 4"/>
          <p:cNvSpPr/>
          <p:nvPr/>
        </p:nvSpPr>
        <p:spPr>
          <a:xfrm>
            <a:off x="3203640" y="5877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案七最便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F:\七彩课堂插图板式封面\排版用图标、页眉页脚\标题jpg\读读比比.jpg"/>
          <p:cNvPicPr/>
          <p:nvPr/>
        </p:nvPicPr>
        <p:blipFill>
          <a:blip r:embed="rId1"/>
          <a:srcRect l="16072" t="13499" r="0" b="0"/>
          <a:stretch/>
        </p:blipFill>
        <p:spPr>
          <a:xfrm>
            <a:off x="6485040" y="765000"/>
            <a:ext cx="2176200" cy="15685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6"/>
          <p:cNvSpPr/>
          <p:nvPr/>
        </p:nvSpPr>
        <p:spPr>
          <a:xfrm>
            <a:off x="1776240" y="2333520"/>
            <a:ext cx="58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超市为了吸引顾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准备用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洗手液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肥皂”进行包装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制成礼盒销售。洗手液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，肥皂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。超市中的存货最多可制成多少个礼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4"/>
          <p:cNvSpPr/>
          <p:nvPr/>
        </p:nvSpPr>
        <p:spPr>
          <a:xfrm>
            <a:off x="1509840" y="2924280"/>
            <a:ext cx="643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洗手液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一组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÷3=6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2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肥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一组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0÷4=7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因为需要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洗手液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肥皂”进行包装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能制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礼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4"/>
          <p:cNvSpPr/>
          <p:nvPr/>
        </p:nvSpPr>
        <p:spPr>
          <a:xfrm>
            <a:off x="2733840" y="26892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80÷3=6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4"/>
          <p:cNvSpPr/>
          <p:nvPr/>
        </p:nvSpPr>
        <p:spPr>
          <a:xfrm>
            <a:off x="2523960" y="4152960"/>
            <a:ext cx="52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超市中的存货最多可制成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礼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4"/>
          <p:cNvSpPr/>
          <p:nvPr/>
        </p:nvSpPr>
        <p:spPr>
          <a:xfrm>
            <a:off x="2733840" y="341136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80÷4=7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2:37:02Z</dcterms:modified>
  <cp:revision>370</cp:revision>
  <dc:subject>www.xkb1.com</dc:subject>
  <dc:title>www.xkb1.com</dc:title>
</cp:coreProperties>
</file>